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thierry" initials="t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11-09T18:21:38.734000000" idx="1">
    <p:pos x="5250" y="1286"/>
    <p:text>adotada em Genebra dia 9 de dezembro de 1923.
objetivo principal : estabelecer normas que permitissem aos Estados interessados negociar e chegar a um acordo, superando os problemas decorrentes das diferenças de legislações nacionais em matéria de instalações hidrelétricas. 
art. 2: para a utilização racional da forças hidráulicas, os Estados envolvidos deverão submeter-se a um estudo internacional. 
art. 5: deverá ser feita abstração de toda e qualquer fronteira política para a adoção das soluções técnicas as mais apropriadas.
Durante a Sétima Conferência pan-americana (Montevidéu - 1933), o delegado argentino, Isidore Huiz MORENO, apresentou um projeto de convenção no qual adaptava a Convenção de Genebra para as Américas. 
O projeto mantinha os dispositivos essenciais do tratado de Genebra, com pequenas alterações.</p:text>
  </p:cm>
</p:cmLst>
</file>

<file path=ppt/comments/comment9.xml><?xml version="1.0" encoding="utf-8"?>
<p:cmLst xmlns:p="http://schemas.openxmlformats.org/presentationml/2006/main">
  <p:cm authorId="0" dt="2004-11-09T18:01:49.107000000" idx="2">
    <p:pos x="5240" y="2700"/>
    <p:text>Os rios internacionais seriam navegáveis até o mar aberto "eles são chamados de itnernacionais pois, para os navios mercantes, a liberdade de navegação em tempos de paz é reconhecida pelo direito internacional convencional". - L. Openheim - International Law, a Treatise, tomo 1º 8a ed., Longmans, Greens and Co., 1955 pg 465.</p:text>
  </p:cm>
  <p:cm authorId="0" dt="2004-11-09T18:18:06.918000000" idx="3">
    <p:pos x="5240" y="2961"/>
    <p:text>1894 e 1895 o Mexico protestou contra derivações das águas do Rio Grande para fins irrigação e abastecimento do lado americano (fundamentaram-se no direito conventcional - Tratado de Guadalupe Hidalgo, de 1848 - art 7º estipulava que nenhuma das partes poderia, sem o consentimento da outra, contruir obras suscetíveios de incomodar ou interromper a, em todo ou em parte, o exercício do dto de navegação . Tb se fundamentaram no prinsípio do prior use appropriation. J. HARMON l'Attorney General elavorou parecer defendendo a liberdade dos EUA em dispor unilateralmente e sem ter que prestar contas a ninguem de das águas do rio Grande correndo em seu território. Ele se apoia não em uma regra de dto internacinalmas numa lacuna de direito, sendo que a regra é a da soberania absoluta de toda Nação sobre o seu território)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699-8591-4AA8-BD1F-09F6AE5406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6760" y="73008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77" name=""/>
          <p:cNvGraphicFramePr/>
          <p:nvPr/>
        </p:nvGraphicFramePr>
        <p:xfrm>
          <a:off x="701640" y="4414680"/>
          <a:ext cx="5607000" cy="4184640"/>
        </p:xfrm>
        <a:graphic>
          <a:graphicData uri="http://schemas.openxmlformats.org/drawingml/2006/table">
            <a:tbl>
              <a:tblPr/>
              <a:tblGrid>
                <a:gridCol w="4784760"/>
                <a:gridCol w="8222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 Fran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Venezuela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1D7-8DDF-4A0E-80BF-B9846F72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DBE-8CDE-4A5F-9E60-9344726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2AB-B7AD-446F-8FB9-43132C0A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740-1505-4EE9-89DB-ED6A0B5B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05C-8043-42B4-B0F2-DACA473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EE1-D7D9-4B31-ADF2-0AD869B0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785-3BA7-4D45-9735-5F69C258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D10-2269-41B4-81EA-A41B177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BD0-D2D6-4273-84AA-C2DE9F61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B0A-BB08-45ED-A6AD-2D9D9E7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DBF-3FAB-4C6F-91E9-B8747D7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A11-D576-416B-9D4B-B21FBE1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1A38-EF2F-4A9E-B5B4-578CF0F31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3333cc"/>
                </a:solidFill>
                <a:latin typeface="Times New Roman"/>
              </a:rPr>
              <a:t>Conceitos Gerais e Aspectos Fundamentais da Gestão de Recursos Hídricos Transfronteir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nceitos e evolução do direi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Nova Iorque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Helsinque d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Diretiva 2000/60/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1600" y="329364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PORTO PRIMA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8520" y="45306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ROS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320" y="3918600"/>
              <a:ext cx="0" cy="247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5680" y="3854880"/>
              <a:ext cx="165600" cy="16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9040" y="3596760"/>
              <a:ext cx="1250280" cy="313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376800" y="4127400"/>
              <a:ext cx="251280" cy="43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6760" y="3183840"/>
              <a:ext cx="162720" cy="16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320" y="2014920"/>
              <a:ext cx="86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JUP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640" y="2351880"/>
              <a:ext cx="1864080" cy="79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040" y="5334120"/>
              <a:ext cx="248400" cy="10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200" y="5551200"/>
              <a:ext cx="44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R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02640" y="5428800"/>
              <a:ext cx="874800" cy="3387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333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BACIA DO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venção das Nações Unidas sobre o direito relativo às utilizações dos cursos d'água internacionais para fins outros que 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ts val="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21 de maio 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 princípios já reconhecidos pelo 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lator: Richard D. Kearney, nomeado em 197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latório apresentado em 1976, elaborado com base em um questionário enviado aos Estados membros das Nações U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ange todos os usos das águas outros que a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dera a água em todo o seu cicl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 art. 2º def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« curso d’água » co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m sistema de águas superficiais e subterrâneas que constituem, por causa de suas relações físicas, um sistema unitário e que desemboca, normalmente, em um ponto de chegada comum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e uma Convenção quadro, que deve servir de guia para que os Estados concluam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cordos de cursos de águ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troca regular de dados e informações entre os Estados dos cursos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notificação das medidas projetadas podendo acarretar um efeito negativo  sobre outros Estados do curso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ratificada por 12 Estad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frica do Sul, Finlândia, Hungria, Iraque, Jordânia, Líbano, Namíbia, Noruega, Países Baixos, Quatar, Síria e Sué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ssinada por outros 8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manha, Costa do Marfim, Luxemburgo, Paraguai, Portugal, Tunísia, Venezuela e Iê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plic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IJ - Caso de Gabcikovo-Nagym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47 da sentença promulgada 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setembro de 1997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º: Os Estados de um curso d’água participam da utilização, da valorização e da proteção de um curso d’água internacional de forma eqüitativa e razoável. Esta participação abrange t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de utiliz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urso d’água qu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 de cooper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sua proteção e valorização, de acordo com o previsto nos presentes artigo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Helsinque, aos 17 de março de 1992, (Fórum de adoção: Comissão Econômica das Nações Unidas para a Europa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ou em vigor em 6 de outubro d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: águas transfronteiriças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ão todas as águas superficiais e subterrâneas  que definem a fronteira entre dois ou mais Estados, os atravessam ou se situam sobre essas frontei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[...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õe um modelo de órgão de gestão (art. 1º, item 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ota os princípios da precaução (art. 2º, item 5, “a”) e do poluidor-pagador (art. 2º, item 5, “b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a elaboração de programas comuns de monitoramento qualitativo e quantitativo das águas de bacias transfronteiri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funda desigualdade na distribuição do recurso: &lt; de 10 países detêm 60% do total da água doce no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rasil: encabeça a lista desses países, com 5.670 k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de água por 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ças com relação à Conv.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ênfase à proteção dos rios internacion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 procedimentos (revisão) e instituições (COP a cada 3 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ura um sistema flexível de “ajuste” e assegura a comunicação constante entre as Par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ã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ivas esparsas e pontuais sobre diversos temas (emissão de efluentes; fixação de objetivos de qualidade das águas; conservação das águas subterrân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l objetivo: estabelecer um enquadramento para a proteção das águas de superfície interiores, das águas de transição, das águas costeiras e das águas subterrâ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ta as diretiva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moniza as modalidades de gestão das águas em todos os países da 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hece a bacia hidrográfica como unidade de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igo 13. Planos de gestão de bacia hidrográfica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Estados-Membros garantirão a elaboração de um plano de gestão de bacia hidrográfica, para cada região hidrográfica inteiramente situada no seu territór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 caso de 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ião hidrográfica internacional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inteiramente situada no território da Comunidade, os Estados-Membros assegurarão a coordenação entre si, com o objetivo de realizar um único plano de gestão de bacia hidrográfica intern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[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No caso de uma região hidrográfica internacional que ultrapasse as fronteiras da Comunidade, os Estados-Membros esforçar-se-ão por elaborar um único plano de gestão de bacia hidrográfica; se tal não for possível, o plano deve abranger, pelo menos, a parte da região hidrográfica internacional situada no território do Estado-Membro em quest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ipais fontes de degra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jeito de poluentes (metais pesados e fósforo) de indústrias quím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mento da salinidade (minas de Potássi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térm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decorrente de acidente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00360" y="260280"/>
            <a:ext cx="560700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dro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68: Convenção de Mannheim (navegaçã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0: Comissão Internacional para a proteção do Reno contra a Polui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: Convenção para a proteção do Reno contra a poluição química (vigor em 1979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a proteção do Reno contra os cloretos (vigor 198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91: Protocolo adicional à Convenção para a proteção do Reno contra os clor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6: acid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n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7: Programa de Ação para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ire de la Commission de Droit Internat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9, vol. II (1a parte), p. 151 (doc. A/CN.4/3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Kiss; D. Shelton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té de Droit Européen de l’Environneme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is, Frison Roche, 1995, 55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T. Calasan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cept 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 naturelle partagée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ux ressources en eau: l' exemple de l' Amérique du Su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ses Universitaires du Septentrion, Villeneuve d’Ascq, 1998, 463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Caubet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grandes manobras de Itaip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Ed. Acadêmica, 1991, 385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. Colliard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 fluvial international : les problèmes actuels de ressources en ea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roum. E.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XXII, 1988, pp. 158-16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 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a ONU existem 163 bacias fluviais compartilhadas, que ocupam 47% da superfície terrestre (excluída a Antarct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4 países possuem, no mínimo, 80% de seu território no interior de uma bacia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ressources et des demandes en eau dans le monde: disparités présentes et fu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Société Hydrotechnique de France, 22èmes Journées de l'hydraulique, 13/15 de setembro de 199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venir de l'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Houille Blanche — Revue internationale de l'eau, n° 4, 1993, pp. 215-22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 &amp; Jean-Robert Tiercelin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 en questions - Enjeu du XXIe siè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, Ed. Romillat, Paris, 1998, 301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ques SIRRONEA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, enjeu stratégique mond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Paris, Économica, 1996, 112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o F. S. SOARES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Internacional do Meio Ambiente – emergências, obrigaçõe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Atlas, São Paulo, 2003, 906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cc"/>
                </a:solidFill>
                <a:latin typeface="Times New Roman"/>
              </a:rPr>
              <a:t>Jorge Thierry Calas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3573360"/>
            <a:ext cx="7923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ANA – 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Tel: 061-2109.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E-mail: thierry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7720" y="320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AIS BACIAS HIDROGRÁFICAS COMPARTILHADAS NA AMÉRICA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(fonte :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Los recursos hidricos de America Latina y el Caribe y su aprovechamiento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Estudos e informes de la CEPAL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Naciones Unidas — Santiago, Chile, 1985, p.p. 92-93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2280"/>
          <a:ext cx="4752720" cy="6173280"/>
        </p:xfrm>
        <a:graphic>
          <a:graphicData uri="http://schemas.openxmlformats.org/drawingml/2006/table">
            <a:tbl>
              <a:tblPr/>
              <a:tblGrid>
                <a:gridCol w="1803240"/>
                <a:gridCol w="1957320"/>
                <a:gridCol w="99216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olombia/Equado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Venezuela/Bolivi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/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9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ac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 Aysen-Simp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 Baker-Lagos B. Aires-Puer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B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 Calle Calle-Hu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 Canc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 Catatum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 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 Chira-Cata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 Ciake-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 Cosap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 Couranty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Essequ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Gr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 Jurad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 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fície unicamente em território Colombiano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 Lago Fagn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 Laguna Blan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 Lau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 Mar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76720" y="692280"/>
          <a:ext cx="4067280" cy="6175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042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 M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Lagoa Mir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 Oiap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 Orin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 Pascura-Lagos San Marún-M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P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q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 Peni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 Puelo-Ma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Rio da P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ívia/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rgentin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i/Urugu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 San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 Serrano-Vizcahos-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ller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- Lagos Titicaca &amp; Poop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Chile/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 Todos los Sa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 Tumbas-Puya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 Yelcho-Futaleufú-P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 Zarum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 Zu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05720" y="533520"/>
            <a:ext cx="638280" cy="228600"/>
          </a:xfrm>
          <a:prstGeom prst="wedgeRectCallout">
            <a:avLst>
              <a:gd name="adj1" fmla="val -64925"/>
              <a:gd name="adj2" fmla="val 2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Oiapo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57200"/>
            <a:ext cx="428400" cy="228600"/>
          </a:xfrm>
          <a:prstGeom prst="wedgeRectCallout">
            <a:avLst>
              <a:gd name="adj1" fmla="val -247777"/>
              <a:gd name="adj2" fmla="val 1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495360" cy="228600"/>
          </a:xfrm>
          <a:prstGeom prst="wedgeRectCallout">
            <a:avLst>
              <a:gd name="adj1" fmla="val -378847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acut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1371600"/>
            <a:ext cx="504720" cy="228600"/>
          </a:xfrm>
          <a:prstGeom prst="wedgeRectCallout">
            <a:avLst>
              <a:gd name="adj1" fmla="val -46226"/>
              <a:gd name="adj2" fmla="val 20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990720"/>
            <a:ext cx="503280" cy="228600"/>
          </a:xfrm>
          <a:prstGeom prst="wedgeRectCallout">
            <a:avLst>
              <a:gd name="adj1" fmla="val -91324"/>
              <a:gd name="adj2" fmla="val 265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u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635040" cy="228600"/>
          </a:xfrm>
          <a:prstGeom prst="wedgeRectCallout">
            <a:avLst>
              <a:gd name="adj1" fmla="val 19999"/>
              <a:gd name="adj2" fmla="val 256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ocand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990720"/>
            <a:ext cx="723960" cy="228600"/>
          </a:xfrm>
          <a:prstGeom prst="wedgeRectCallout">
            <a:avLst>
              <a:gd name="adj1" fmla="val 89472"/>
              <a:gd name="adj2" fmla="val 269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Macap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066680"/>
            <a:ext cx="495360" cy="228600"/>
          </a:xfrm>
          <a:prstGeom prst="wedgeRectCallout">
            <a:avLst>
              <a:gd name="adj1" fmla="val 221152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ç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219320"/>
            <a:ext cx="761760" cy="228600"/>
          </a:xfrm>
          <a:prstGeom prst="wedgeRectCallout">
            <a:avLst>
              <a:gd name="adj1" fmla="val 247291"/>
              <a:gd name="adj2" fmla="val 1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Jarauaetê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33520" y="1371600"/>
            <a:ext cx="555480" cy="228600"/>
          </a:xfrm>
          <a:prstGeom prst="wedgeRectCallout">
            <a:avLst>
              <a:gd name="adj1" fmla="val 484000"/>
              <a:gd name="adj2" fmla="val 186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aup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228600" y="1676520"/>
            <a:ext cx="487440" cy="228600"/>
          </a:xfrm>
          <a:prstGeom prst="wedgeRectCallout">
            <a:avLst>
              <a:gd name="adj1" fmla="val 612541"/>
              <a:gd name="adj2" fmla="val 123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p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609480" cy="228600"/>
          </a:xfrm>
          <a:prstGeom prst="wedgeRectCallout">
            <a:avLst>
              <a:gd name="adj1" fmla="val 510675"/>
              <a:gd name="adj2" fmla="val 11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hamb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0" y="2286000"/>
            <a:ext cx="487440" cy="228600"/>
          </a:xfrm>
          <a:prstGeom prst="wedgeRectCallout">
            <a:avLst>
              <a:gd name="adj1" fmla="val 656189"/>
              <a:gd name="adj2" fmla="val -105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iqu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485640" cy="228600"/>
          </a:xfrm>
          <a:prstGeom prst="wedgeRectCallout">
            <a:avLst>
              <a:gd name="adj1" fmla="val 687254"/>
              <a:gd name="adj2" fmla="val -126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raí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0" y="2895480"/>
            <a:ext cx="620640" cy="228600"/>
          </a:xfrm>
          <a:prstGeom prst="wedgeRectCallout">
            <a:avLst>
              <a:gd name="adj1" fmla="val 532865"/>
              <a:gd name="adj2" fmla="val -1847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quet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417600" cy="228600"/>
          </a:xfrm>
          <a:prstGeom prst="wedgeRectCallout">
            <a:avLst>
              <a:gd name="adj1" fmla="val 813879"/>
              <a:gd name="adj2" fmla="val -2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u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81280"/>
            <a:ext cx="738360" cy="228600"/>
          </a:xfrm>
          <a:prstGeom prst="wedgeRectCallout">
            <a:avLst>
              <a:gd name="adj1" fmla="val 430861"/>
              <a:gd name="adj2" fmla="val -355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unh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0" y="4495680"/>
            <a:ext cx="426960" cy="228600"/>
          </a:xfrm>
          <a:prstGeom prst="wedgeRectCallout">
            <a:avLst>
              <a:gd name="adj1" fmla="val 589032"/>
              <a:gd name="adj2" fmla="val 132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uru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676440" cy="228600"/>
          </a:xfrm>
          <a:prstGeom prst="wedgeRectCallout">
            <a:avLst>
              <a:gd name="adj1" fmla="val 380518"/>
              <a:gd name="adj2" fmla="val -21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Env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868320" cy="228600"/>
          </a:xfrm>
          <a:prstGeom prst="wedgeRectCallout">
            <a:avLst>
              <a:gd name="adj1" fmla="val 282541"/>
              <a:gd name="adj2" fmla="val 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48520"/>
            <a:ext cx="868320" cy="228600"/>
          </a:xfrm>
          <a:prstGeom prst="wedgeRectCallout">
            <a:avLst>
              <a:gd name="adj1" fmla="val 315263"/>
              <a:gd name="adj2" fmla="val -5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Sta. Ro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797040" cy="228600"/>
          </a:xfrm>
          <a:prstGeom prst="wedgeRectCallout">
            <a:avLst>
              <a:gd name="adj1" fmla="val 323305"/>
              <a:gd name="adj2" fmla="val -384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Riozin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05520"/>
            <a:ext cx="1400040" cy="228600"/>
          </a:xfrm>
          <a:prstGeom prst="wedgeRectCallout">
            <a:avLst>
              <a:gd name="adj1" fmla="val 153967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 Progr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6629400"/>
            <a:ext cx="457200" cy="228600"/>
          </a:xfrm>
          <a:prstGeom prst="wedgeRectCallout">
            <a:avLst>
              <a:gd name="adj1" fmla="val 171875"/>
              <a:gd name="adj2" fmla="val -639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Y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6629400"/>
            <a:ext cx="792360" cy="228600"/>
          </a:xfrm>
          <a:prstGeom prst="wedgeRectCallout">
            <a:avLst>
              <a:gd name="adj1" fmla="val 202106"/>
              <a:gd name="adj2" fmla="val -65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hamb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09480" cy="228600"/>
          </a:xfrm>
          <a:prstGeom prst="wedgeRectCallout">
            <a:avLst>
              <a:gd name="adj1" fmla="val 412759"/>
              <a:gd name="adj2" fmla="val -6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andl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495680"/>
            <a:ext cx="726840" cy="228600"/>
          </a:xfrm>
          <a:prstGeom prst="wedgeRectCallout">
            <a:avLst>
              <a:gd name="adj1" fmla="val -177731"/>
              <a:gd name="adj2" fmla="val 20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ioho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809880"/>
            <a:ext cx="685800" cy="228600"/>
          </a:xfrm>
          <a:prstGeom prst="wedgeRectCallout">
            <a:avLst>
              <a:gd name="adj1" fmla="val -139351"/>
              <a:gd name="adj2" fmla="val 49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umbu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2743200" y="4114800"/>
            <a:ext cx="457200" cy="228600"/>
          </a:xfrm>
          <a:prstGeom prst="wedgeRectCallout">
            <a:avLst>
              <a:gd name="adj1" fmla="val 70138"/>
              <a:gd name="adj2" fmla="val 29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ur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629400"/>
            <a:ext cx="533160" cy="228600"/>
          </a:xfrm>
          <a:prstGeom prst="wedgeRectCallout">
            <a:avLst>
              <a:gd name="adj1" fmla="val 205060"/>
              <a:gd name="adj2" fmla="val -64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bun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629400"/>
            <a:ext cx="609480" cy="228600"/>
          </a:xfrm>
          <a:prstGeom prst="wedgeRectCallout">
            <a:avLst>
              <a:gd name="adj1" fmla="val 173958"/>
              <a:gd name="adj2" fmla="val -49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m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267080" y="6629400"/>
            <a:ext cx="609840" cy="228600"/>
          </a:xfrm>
          <a:prstGeom prst="wedgeRectCallout">
            <a:avLst>
              <a:gd name="adj1" fmla="val 75000"/>
              <a:gd name="adj2" fmla="val -4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Guap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609840" cy="228600"/>
          </a:xfrm>
          <a:prstGeom prst="wedgeRectCallout">
            <a:avLst>
              <a:gd name="adj1" fmla="val -165365"/>
              <a:gd name="adj2" fmla="val 3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0" y="3886200"/>
            <a:ext cx="609480" cy="228600"/>
          </a:xfrm>
          <a:prstGeom prst="wedgeRectCallout">
            <a:avLst>
              <a:gd name="adj1" fmla="val 457291"/>
              <a:gd name="adj2" fmla="val -2645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olim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1" action="ppaction://hlinksldjump"/>
          </p:cNvPr>
          <p:cNvSpPr/>
          <p:nvPr/>
        </p:nvSpPr>
        <p:spPr>
          <a:xfrm>
            <a:off x="0" y="4191120"/>
            <a:ext cx="533520" cy="228600"/>
          </a:xfrm>
          <a:prstGeom prst="wedgeRectCallout">
            <a:avLst>
              <a:gd name="adj1" fmla="val 440476"/>
              <a:gd name="adj2" fmla="val -2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v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30000"/>
          </a:blip>
          <a:srcRect l="27888" t="20064" r="5450" b="1308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495360" cy="228600"/>
          </a:xfrm>
          <a:prstGeom prst="wedgeRectCallout">
            <a:avLst>
              <a:gd name="adj1" fmla="val 251921"/>
              <a:gd name="adj2" fmla="val 173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ur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609840" cy="228600"/>
          </a:xfrm>
          <a:prstGeom prst="wedgeRectCallout">
            <a:avLst>
              <a:gd name="adj1" fmla="val 290625"/>
              <a:gd name="adj2" fmla="val 19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ca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685800" cy="228600"/>
          </a:xfrm>
          <a:prstGeom prst="wedgeRectCallout">
            <a:avLst>
              <a:gd name="adj1" fmla="val 238888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. Tarum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685800" cy="228600"/>
          </a:xfrm>
          <a:prstGeom prst="wedgeRectCallout">
            <a:avLst>
              <a:gd name="adj1" fmla="val 229166"/>
              <a:gd name="adj2" fmla="val -288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anta 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362320"/>
            <a:ext cx="914400" cy="228600"/>
          </a:xfrm>
          <a:prstGeom prst="wedgeRectCallout">
            <a:avLst>
              <a:gd name="adj1" fmla="val 162500"/>
              <a:gd name="adj2" fmla="val -451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S.Mat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43200"/>
            <a:ext cx="838080" cy="228600"/>
          </a:xfrm>
          <a:prstGeom prst="wedgeRectCallout">
            <a:avLst>
              <a:gd name="adj1" fmla="val 138634"/>
              <a:gd name="adj2" fmla="val -56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314880"/>
            <a:ext cx="838080" cy="228600"/>
          </a:xfrm>
          <a:prstGeom prst="wedgeRectCallout">
            <a:avLst>
              <a:gd name="adj1" fmla="val 162500"/>
              <a:gd name="adj2" fmla="val -5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agoa Các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133720" y="3200400"/>
            <a:ext cx="609480" cy="228600"/>
          </a:xfrm>
          <a:prstGeom prst="wedgeRectCallout">
            <a:avLst>
              <a:gd name="adj1" fmla="val 68750"/>
              <a:gd name="adj2" fmla="val -3472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81280"/>
            <a:ext cx="457200" cy="228600"/>
          </a:xfrm>
          <a:prstGeom prst="wedgeRectCallout">
            <a:avLst>
              <a:gd name="adj1" fmla="val 143750"/>
              <a:gd name="adj2" fmla="val -230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066680" y="3962520"/>
            <a:ext cx="533520" cy="228600"/>
          </a:xfrm>
          <a:prstGeom prst="wedgeRectCallout">
            <a:avLst>
              <a:gd name="adj1" fmla="val 485712"/>
              <a:gd name="adj2" fmla="val 5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n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533520" cy="228600"/>
          </a:xfrm>
          <a:prstGeom prst="wedgeRectCallout">
            <a:avLst>
              <a:gd name="adj1" fmla="val 517856"/>
              <a:gd name="adj2" fmla="val -143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uaç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762120" cy="228600"/>
          </a:xfrm>
          <a:prstGeom prst="wedgeRectCallout">
            <a:avLst>
              <a:gd name="adj1" fmla="val 316250"/>
              <a:gd name="adj2" fmla="val -2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to. Antô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600200" y="5181480"/>
            <a:ext cx="609480" cy="228600"/>
          </a:xfrm>
          <a:prstGeom prst="wedgeRectCallout">
            <a:avLst>
              <a:gd name="adj1" fmla="val 354689"/>
              <a:gd name="adj2" fmla="val -280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ru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410080"/>
            <a:ext cx="533520" cy="228600"/>
          </a:xfrm>
          <a:prstGeom prst="wedgeRectCallout">
            <a:avLst>
              <a:gd name="adj1" fmla="val 423212"/>
              <a:gd name="adj2" fmla="val 7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ara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15000"/>
            <a:ext cx="914400" cy="228600"/>
          </a:xfrm>
          <a:prstGeom prst="wedgeRectCallout">
            <a:avLst>
              <a:gd name="adj1" fmla="val 268750"/>
              <a:gd name="adj2" fmla="val -1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Invern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914400" cy="228600"/>
          </a:xfrm>
          <a:prstGeom prst="wedgeRectCallout">
            <a:avLst>
              <a:gd name="adj1" fmla="val 266666"/>
              <a:gd name="adj2" fmla="val -1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Lui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324480"/>
            <a:ext cx="533520" cy="228600"/>
          </a:xfrm>
          <a:prstGeom prst="wedgeRectCallout">
            <a:avLst>
              <a:gd name="adj1" fmla="val 491069"/>
              <a:gd name="adj2" fmla="val -1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752480" y="6477120"/>
            <a:ext cx="609840" cy="228600"/>
          </a:xfrm>
          <a:prstGeom prst="wedgeRectCallout">
            <a:avLst>
              <a:gd name="adj1" fmla="val 351564"/>
              <a:gd name="adj2" fmla="val -1513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guar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6629400"/>
            <a:ext cx="914400" cy="228600"/>
          </a:xfrm>
          <a:prstGeom prst="wedgeRectCallout">
            <a:avLst>
              <a:gd name="adj1" fmla="val 142708"/>
              <a:gd name="adj2" fmla="val -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Mig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Uso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IX: liberdade de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X: produção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 Séc. XX - início Séc. XXI: Usos Múltip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volução do Direi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Genebra relativa à instalação de forças hidráulicas de interesse de vários Est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Sentença CPJI - caso O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Projeto de Princípios Referentes à Conduta dos Estados na Conservação e na Utilização de Recursos Naturais Compartilhados por dois ou mais Estados (PNU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Helsinque para proteção e uso de cursos d’água transfronteiriços e lagos intern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as Nações Unidas sobre o direito relativo às utilizações dos cursos d'água internacionais para fins outros que a naveg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de interesse de vári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internacional (contíguo/fronteiriço; contínuo/ suces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utrina anglo-saxã (Oppenheim)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oundary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g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n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boundary river&amp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compartilhado / curso d’águ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transfronteiriço (&amp; fronteiriço – art. 39 § 2º Lei nº 9.433/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il: abordagem + restritiva (doutrina Har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52:51Z</dcterms:created>
  <dc:creator>Compaq</dc:creator>
  <dc:description/>
  <dc:language>en-US</dc:language>
  <cp:lastModifiedBy>SRH</cp:lastModifiedBy>
  <dcterms:modified xsi:type="dcterms:W3CDTF">2005-02-03T16:04:27Z</dcterms:modified>
  <cp:revision>136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988235</vt:r8>
  </property>
  <property fmtid="{D5CDD505-2E9C-101B-9397-08002B2CF9AE}" pid="3" name="_AuthorEmail">
    <vt:lpwstr>thierry@ana.gov.br</vt:lpwstr>
  </property>
  <property fmtid="{D5CDD505-2E9C-101B-9397-08002B2CF9AE}" pid="4" name="_AuthorEmailDisplayName">
    <vt:lpwstr>Jorge Thierry Calasans</vt:lpwstr>
  </property>
  <property fmtid="{D5CDD505-2E9C-101B-9397-08002B2CF9AE}" pid="5" name="_EmailSubject">
    <vt:lpwstr>Apresentações da 28ª CTGRHT</vt:lpwstr>
  </property>
</Properties>
</file>